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9759-0636-47B0-ABA4-8F618D906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65AD-DCFE-4B24-B705-CB369C3A9E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9867-0E59-4E98-9FB6-8195D08BC6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3985-B76A-4A00-860B-6ACC19DAD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FFEA-83F2-4C9C-AE7C-2706DE481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2BC3-2739-4CB5-AD47-41FED36C1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193B-13C5-4433-901F-6996340E7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3DB4-962D-43EC-85F6-B7CC7EE19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D3F6-E4DB-4246-8E52-2330E404B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BF9E-5AD2-4541-9FEC-ABE0B53BE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7734-8596-4239-9E2A-C63817DA4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6363-7A23-4C45-8659-0519ECB69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2956-EA7E-4DE4-9929-3978ABBE8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4130-2097-4ED4-8278-1B3D68F8C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FD67-08C0-4D86-BDBA-E7A860B10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8C76-5D44-462E-86A8-6CB99171265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1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87440" y="65008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osul Copyright-ulu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 ghid educ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onal de utilizare a dreptului de aut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zentarea a fost creat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entru curs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AE98-71D4-4195-BE42-AA98A01796C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Atribuiri şi recunoştiinţ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5e647"/>
                </a:solidFill>
                <a:latin typeface="Verdana"/>
              </a:rPr>
              <a:t>Numiţi sursele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 şi afişati semnul de copyright 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66ccff"/>
                </a:solidFill>
                <a:latin typeface="Verdana"/>
              </a:rPr>
              <a:t>Numirea surselor:</a:t>
            </a:r>
            <a:r>
              <a:rPr b="1" i="1" lang="ro-RO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- daţi o descriere bibliografică completă cu informaţiile care sunt disponibile (incluzând autorul, titlul, tipografia, locul şi data tipăriri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66ccff"/>
                </a:solidFill>
                <a:latin typeface="Verdana"/>
              </a:rPr>
              <a:t>Afişati semnul de copyright:</a:t>
            </a:r>
            <a:r>
              <a:rPr b="1" i="1" lang="ro-RO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-sub poze adăugaţi informaţii despre deţinătorul copyrightului (anul primei apariţii, numele deţinătorului dreptului de auto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Exemplu: © 2001 Company/Person’s Na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735B-259E-4109-A13D-3E6414C3AB2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720" y="228240"/>
            <a:ext cx="86932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Folosirea ulterioară dincolo de folosirea legală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Dacă există posibilitatea ca un proiect să fie răspândit (de exemplu publicat pe internet):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obţineţi permisiunea când îl creaţi, decât să asteptaţ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Exemple de scrisori pentru permisiune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unt disponibile pe Curriculum Resource CD, Folder-ul Resource, Copyright Resour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crisori pentru solicitarea permisiunii către deţinătorii dreptului de aut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crisori pentru solicitarea permisiunii părinţilor de a publica lucrările elevilor sau a pozelor copiilor l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un exemplu de scrisoare pentru a folosi acest cur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954C-FEA7-4444-BB74-193A5274F1B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5760" y="8380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fatur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Reţineti că acestea sunt sfaturi, nu legi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Cu toate acestea, cu cât te îndepărtezi mai mult de aceste sfaturi, cu atât mai mult ai şansa să fii în afara “folosirii legale”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D0FF-0A5A-49CA-8B0C-782BD2D0D0F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Dar despre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Dacă nu ai permisiunea deţinătorului dreptului de autor, atunci este ilegal să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procuri o licenţă pentru un singur utilizator şi să o foloseşti pe mai multe calculatoare sau un serv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downloadezi softuri cu drept de autor de pe Intern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împrumuţi şcolii tale softul pe care l-ai procurat pentru calculatorul tău de acasă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opyright and Fai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8820-450E-4BC6-8DBD-8868229E939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DA8B-6FA7-4042-8CD5-2832F15921E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26DD-85AB-4273-86E8-0B80D1C2C8B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EBCA-932D-4C7C-B8F0-7D342D4FB82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2718-548C-4287-A618-2D6F617CD43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tilizarea acestei prezent</a:t>
            </a: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easta prezentare  poate fi utilizat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 scopuri non-profit , educa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onale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 apar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 firmei 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8D06-4CA2-4335-8967-A76162F816C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Verdana"/>
              </a:rPr>
              <a:t>Ce este copyrightul?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Dreptul exclusiv de a produce şi reproduce, de a reprezenta în public, sau de a publica o operă originală artistică sau literală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Aproape orice creat privat şi original, după ce este protejat, indiferent dacă are o înştiinţare sau nu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3BB8-E503-4D53-8917-01BBBC26842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Itemi care nu sunt protejaţi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ccff"/>
                </a:solidFill>
                <a:latin typeface="Verdana"/>
              </a:rPr>
              <a:t>Exemple de itemi care nu sunt protejaţi de legea copyrightulu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lucrări care nu au fost scrise sau înregist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idei, metode, descoperiri care se disting dintr-o descriere, explicaţie sau ilustraţ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lucrări constituite în intregime din informaţii comune (de ex: calendare standard, carte de telefoan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itemi din domeniul public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majoritatea materialelor guvernamentale (unii itemi creaţi de antreprenori pentru guvern pot fi protejaţi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fap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0291-3320-4915-9615-CD885092C83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auza folosirii lega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Folosirea legală este o parte a legii copyrightului. Permite oamenilor să folosească şi să copieze lucrări protejate dacă sunt folosite pentr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ritic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omentari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Ştir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Învăţămâ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Burse şcol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ercet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5222-8960-44A5-8250-EB9A6494A9D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 factori 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care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jut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la determinarea folosirii lega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1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Scopul şi caracterul folosirii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, inclusiv dacă folosirea este   de natură comercială în scopuri educative nonpr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poate fi folosit în scopuri educaţionale, nu doar intr-un   mediu şco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2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Natura lucrării protej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folosirea legală se aplică mai puţin lucrărilor creative în comparaţie cu cele bazate pe fapte din natur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3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Marimea parţii folosi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în raport cu lucrarea protejat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folosirea doar a ceea ce este necesar, nu şi a “miezului” lucră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4.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Efectul folosirii asupra potenţialei pieţ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a lucrării proteja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copierea nu trebuie să afecteze piaţa lucrării proteja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culegeri de probl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2659-5245-4E75-BC85-FBAEEE22805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5760" y="533160"/>
            <a:ext cx="823752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lvl="1" marL="20412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ul folosirii lega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Fair Use Guidelines for Educational Multimedia “ a fost creat pentru a oferi suport în privinţa folosirii leg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Cu toate acestea nu este un document legal, este doar o interpretare a legii, se aplică doar educatorilor care produc multimed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4D8A-2EF7-4FE4-90EE-54590383C5D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 pentru studenţi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Studenţii şi educatorii au ghiduri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5e647"/>
                </a:solidFill>
                <a:latin typeface="Verdana"/>
              </a:rPr>
              <a:t>Studenţii pot: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încorpora porţiuni din lucrări protejate când îşi realizează propriile proiecte educaţionale multimedia pentru un anumit cu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prezenta  propriile proiecte la cursul pentru care au fost cre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reţine proiectele în propriile portofolii ca exemple ale muncii academice pentru scopuri personale ulterioare cum ar fi servicii sau interviuri şcol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7142-0275-46CC-898B-023F3B676B5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 pentru educatori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Educatorii po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ncorpora porţiuni din lucrări protejate când  realizează proiecte educaţionale multimedia care să vină în ajutorul predă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Reţine proiectele pe termen nedefinit în următoarele scopur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pentru a le prezenta colegilor săi ca exemeple la conferinţ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să le reţină în portofolii pentru uz personal cum ar fi promoţii sau  interviuri pentru job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să folosească proiectele pentru predare pe o perioadă de până la 2 ani dupa prima folosire cu o clas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folosirea după această perioadă de timp necesită permisiunea pentru fiecare porţiune protejată încorporată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1071-461E-443D-9E9E-C02E3B50434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ffffff"/>
                </a:solidFill>
                <a:latin typeface="Verdana"/>
              </a:rPr>
              <a:t>Sfaturi pentru rămânera în permisiunea legală</a:t>
            </a:r>
            <a:endParaRPr b="1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5760" y="1371600"/>
          <a:ext cx="8237520" cy="454356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 min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1000 cuvi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z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de cuvinte; nu mai multe de 3 poezii de acelaşi autor; nu mai mult de 5 poezii dintr-o singură ant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zică,versuri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0 secu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tografii şi Ilustrat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ini de la un autor; Nu mai mult de  10% sau 15 imagini dintr-o singură publicaţ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uri de date nume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din 2500  câmpuri sau cel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6"/>
          <p:cNvSpPr/>
          <p:nvPr/>
        </p:nvSpPr>
        <p:spPr>
          <a:xfrm>
            <a:off x="152280" y="789120"/>
            <a:ext cx="81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Verdana"/>
              </a:rPr>
              <a:t>Din lucrarea protejată, puteţi folosiţi următoarele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ARDELEAN NORIN</cp:lastModifiedBy>
  <dcterms:modified xsi:type="dcterms:W3CDTF">2010-12-01T08:01:37Z</dcterms:modified>
  <cp:revision>316</cp:revision>
  <dc:subject/>
  <dc:title>Copyright Chaos</dc:title>
</cp:coreProperties>
</file>